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50920" y="691920"/>
            <a:ext cx="455616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093720" y="875016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EE78-8F75-415D-B026-BF8FBC921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c050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Time is included in this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3A4D-CEF1-4095-9737-F67EFFE5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4250-8EEF-4FB0-BD94-77906A96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B76E-3E4E-473F-BD8A-907832DE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44BF-C742-4F5F-9A99-6CB68893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F7FD-3314-4A8C-A8DC-CC12AD07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0FA5-2283-4F20-8965-B90A434E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0BEA-41D5-4413-939A-15F42E43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2C24-A74D-4400-B647-607B7525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249E-7C3A-4A98-A442-C38E6767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DC82-9C14-40E0-9F5C-A95DC2E5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E808-2952-495C-9FAB-8AE87EE5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1DC8-D280-4870-AA23-7613E7E3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F918-00DB-4570-A71F-023F143FDD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1" i="1" lang="en-US" sz="1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9FA4-31A8-4413-8A4D-B36F4DECF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ae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csulb.libguides.com/nursing/pico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s://guides.library.vcu.edu/rapidreview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762120" y="1752480"/>
            <a:ext cx="764856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“How To” Research Series at RVU</a:t>
            </a:r>
            <a:endParaRPr b="1" i="1" lang="en-US" sz="2400" spc="-1" strike="noStrike">
              <a:solidFill>
                <a:srgbClr val="c050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c050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inding an Idea</a:t>
            </a:r>
            <a:endParaRPr b="1" i="1" lang="en-US" sz="2400" spc="-1" strike="noStrike">
              <a:solidFill>
                <a:srgbClr val="c050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c050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ctober, 2020</a:t>
            </a:r>
            <a:endParaRPr b="1" i="1" lang="en-US" sz="2000" spc="-1" strike="noStrike">
              <a:solidFill>
                <a:srgbClr val="c050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1" i="1" lang="en-US" sz="2000" spc="-1" strike="noStrike">
              <a:solidFill>
                <a:srgbClr val="c050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manda Brooks, PhD</a:t>
            </a:r>
            <a:endParaRPr b="1" i="1" lang="en-US" sz="1800" spc="-1" strike="noStrike">
              <a:solidFill>
                <a:srgbClr val="c050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irector of Research and Scholarly Activity</a:t>
            </a:r>
            <a:endParaRPr b="1" i="1" lang="en-US" sz="1800" spc="-1" strike="noStrike">
              <a:solidFill>
                <a:srgbClr val="c050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ssociate Professor of Molecular Biology</a:t>
            </a:r>
            <a:endParaRPr b="1" i="1" lang="en-US" sz="2000" spc="-1" strike="noStrike">
              <a:solidFill>
                <a:srgbClr val="c050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1" i="1" lang="en-US" sz="2000" spc="-1" strike="noStrike">
              <a:solidFill>
                <a:srgbClr val="c0504d"/>
              </a:solidFill>
              <a:latin typeface="Arial"/>
            </a:endParaRPr>
          </a:p>
        </p:txBody>
      </p:sp>
      <p:pic>
        <p:nvPicPr>
          <p:cNvPr id="46" name="Audio 1" descr=""/>
          <p:cNvPicPr/>
          <p:nvPr/>
        </p:nvPicPr>
        <p:blipFill>
          <a:blip r:embed="rId2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ent Learning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 the end of this video, you should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SzPct val="15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ave the tools to come up with a research ques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SzPct val="15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ave a research ques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researc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searc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defined as 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ystematic investig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to a topic or material in order to establish facts and reach a conclus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holarly activit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defined as creative works that are peer reviewed and publically disseminat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Diagram 1" descr=""/>
          <p:cNvPicPr/>
          <p:nvPr/>
        </p:nvPicPr>
        <p:blipFill>
          <a:blip r:embed="rId1"/>
          <a:stretch/>
        </p:blipFill>
        <p:spPr>
          <a:xfrm>
            <a:off x="762120" y="1427040"/>
            <a:ext cx="7540560" cy="4729320"/>
          </a:xfrm>
          <a:prstGeom prst="rect">
            <a:avLst/>
          </a:prstGeom>
          <a:ln w="0">
            <a:noFill/>
          </a:ln>
        </p:spPr>
      </p:pic>
      <p:pic>
        <p:nvPicPr>
          <p:cNvPr id="55" name="Audio 2" descr=""/>
          <p:cNvPicPr/>
          <p:nvPr/>
        </p:nvPicPr>
        <p:blipFill>
          <a:blip r:embed="rId2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e your 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it bri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it cl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it manage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gap you are trying to fil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are you uniquely qualified to fill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find/refine your 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"/>
          <p:cNvPicPr/>
          <p:nvPr/>
        </p:nvPicPr>
        <p:blipFill>
          <a:blip r:embed="rId1"/>
          <a:stretch/>
        </p:blipFill>
        <p:spPr>
          <a:xfrm>
            <a:off x="96840" y="1347840"/>
            <a:ext cx="8248680" cy="457668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 rot="5400000">
            <a:off x="6400080" y="3151080"/>
            <a:ext cx="41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504d"/>
                </a:solidFill>
                <a:latin typeface="Arial"/>
              </a:rPr>
              <a:t>Find your passion</a:t>
            </a:r>
            <a:endParaRPr b="1" i="1" lang="en-US" sz="3600" spc="-1" strike="noStrike">
              <a:solidFill>
                <a:srgbClr val="c0504d"/>
              </a:solidFill>
              <a:latin typeface="Arial"/>
            </a:endParaRPr>
          </a:p>
        </p:txBody>
      </p:sp>
      <p:pic>
        <p:nvPicPr>
          <p:cNvPr id="62" name="Audio 1" descr=""/>
          <p:cNvPicPr/>
          <p:nvPr/>
        </p:nvPicPr>
        <p:blipFill>
          <a:blip r:embed="rId2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64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find/refine your 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"/>
          <p:cNvPicPr/>
          <p:nvPr/>
        </p:nvPicPr>
        <p:blipFill>
          <a:blip r:embed="rId1"/>
          <a:stretch/>
        </p:blipFill>
        <p:spPr>
          <a:xfrm>
            <a:off x="103320" y="1139760"/>
            <a:ext cx="8242200" cy="5157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 rot="5400000">
            <a:off x="6400080" y="3151080"/>
            <a:ext cx="41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504d"/>
                </a:solidFill>
                <a:latin typeface="Arial"/>
              </a:rPr>
              <a:t>Find your passion</a:t>
            </a:r>
            <a:endParaRPr b="1" i="1" lang="en-US" sz="3600" spc="-1" strike="noStrike">
              <a:solidFill>
                <a:srgbClr val="c0504d"/>
              </a:solidFill>
              <a:latin typeface="Arial"/>
            </a:endParaRPr>
          </a:p>
        </p:txBody>
      </p:sp>
      <p:pic>
        <p:nvPicPr>
          <p:cNvPr id="66" name="Audio 1" descr=""/>
          <p:cNvPicPr/>
          <p:nvPr/>
        </p:nvPicPr>
        <p:blipFill>
          <a:blip r:embed="rId2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 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s://s3.amazonaws.com/libapps/accounts/76978/images/PICO_Formula.png"/>
          <p:cNvPicPr/>
          <p:nvPr/>
        </p:nvPicPr>
        <p:blipFill>
          <a:blip r:embed="rId1"/>
          <a:srcRect l="1354" t="5324" r="2701" b="7749"/>
          <a:stretch/>
        </p:blipFill>
        <p:spPr>
          <a:xfrm>
            <a:off x="990720" y="1143000"/>
            <a:ext cx="7162560" cy="46274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33480" y="59342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s://csulb.libguides.com/nursing/pico</a:t>
            </a:r>
            <a:endParaRPr b="1" i="1" lang="en-US" sz="1200" spc="-1" strike="noStrike">
              <a:solidFill>
                <a:srgbClr val="c0504d"/>
              </a:solidFill>
              <a:latin typeface="Arial"/>
            </a:endParaRPr>
          </a:p>
        </p:txBody>
      </p:sp>
      <p:pic>
        <p:nvPicPr>
          <p:cNvPr id="70" name="Audio 1" descr=""/>
          <p:cNvPicPr/>
          <p:nvPr/>
        </p:nvPicPr>
        <p:blipFill>
          <a:blip r:embed="rId3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 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Steps: Rapid Review - Rapid Review Protocol - Research Guides at Virginia  Commonwealth University"/>
          <p:cNvPicPr/>
          <p:nvPr/>
        </p:nvPicPr>
        <p:blipFill>
          <a:blip r:embed="rId1"/>
          <a:stretch/>
        </p:blipFill>
        <p:spPr>
          <a:xfrm>
            <a:off x="750960" y="1600200"/>
            <a:ext cx="7642080" cy="40464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228600" y="58514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s://guides.library.vcu.edu/rapidreview</a:t>
            </a:r>
            <a:endParaRPr b="1" i="1" lang="en-US" sz="1200" spc="-1" strike="noStrike">
              <a:solidFill>
                <a:srgbClr val="c0504d"/>
              </a:solidFill>
              <a:latin typeface="Arial"/>
            </a:endParaRPr>
          </a:p>
        </p:txBody>
      </p:sp>
      <p:pic>
        <p:nvPicPr>
          <p:cNvPr id="74" name="Audio 1" descr=""/>
          <p:cNvPicPr/>
          <p:nvPr/>
        </p:nvPicPr>
        <p:blipFill>
          <a:blip r:embed="rId3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5T23:52:26Z</dcterms:created>
  <dc:creator>Bill Brown</dc:creator>
  <dc:description>Draft from 2/e</dc:description>
  <dc:language>en-US</dc:language>
  <cp:lastModifiedBy>Amanda Brooks</cp:lastModifiedBy>
  <cp:lastPrinted>2017-06-06T17:05:35Z</cp:lastPrinted>
  <dcterms:modified xsi:type="dcterms:W3CDTF">2020-10-21T19:04:37Z</dcterms:modified>
  <cp:revision>525</cp:revision>
  <dc:subject>Biochemistry by Mary Campbell</dc:subject>
  <dc:title>Camp 1</dc:title>
</cp:coreProperties>
</file>